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B56F8-BDBE-4B29-B7D7-82DAB8F14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DD7B-248E-42C1-B318-EAF4B4908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FE055-7AB8-47BE-A09E-FCAA4F708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24705-AFD8-4A49-858B-0D4858475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977E9-75A7-49C6-AA41-6D3F2CCCF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85248-45ED-4FDA-9F9A-203A75970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3B6E8-41B5-438F-A8E3-B0E7E4AF3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4DAA5-BAD4-4F61-AF5D-840824126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4771E-2DED-4C06-8A57-ADA16A0E0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0332C-AF61-4500-A8E4-A02B3EA99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BD0BC-FCFA-4A0F-B0F8-168E3F6A6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2A5EC-4E56-4A6B-8E1A-F45ABD943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C732B-96AA-4437-9208-A556A92AD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FA0F8-C03A-451D-8B2B-BEC1C779C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E32B0-53B0-49E9-83E3-37A84F07E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3C63C-65D0-4296-A900-D4B5E119D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55673-A7E7-4DBC-950C-7F5A2EF55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220FB-7086-4A76-B6CC-9420D7FD0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CCB7-EC05-49DD-94DF-384851312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AA99D-007C-4171-8211-529B202C9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02C94-CFC0-4650-8742-48DD1A6E4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0FC8-D243-4C75-AF52-C9CBC783E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9165F-F5F1-407C-BE53-0892E0D7E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B025-DD9D-4493-A76B-026765B24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D3FC-1474-4956-935E-B25E59F0269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0AA5-238D-4FD4-8BDE-D42BF066D24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四章  国际贸易纯理论</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贸易利益的构成</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机会成本与比较优势</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贸易的静态均衡、动态均衡与贸易条件</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贸易的静态均衡</a:t>
            </a:r>
            <a:endParaRPr b="1" lang="en-US" sz="20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4"/>
          <p:cNvSpPr/>
          <p:nvPr/>
        </p:nvSpPr>
        <p:spPr>
          <a:xfrm flipV="1">
            <a:off x="1547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5"/>
          <p:cNvSpPr/>
          <p:nvPr/>
        </p:nvSpPr>
        <p:spPr>
          <a:xfrm>
            <a:off x="1547640" y="5877000"/>
            <a:ext cx="230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6"/>
          <p:cNvSpPr/>
          <p:nvPr/>
        </p:nvSpPr>
        <p:spPr>
          <a:xfrm flipV="1">
            <a:off x="414036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Line 7"/>
          <p:cNvSpPr/>
          <p:nvPr/>
        </p:nvSpPr>
        <p:spPr>
          <a:xfrm>
            <a:off x="4140360" y="587700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8"/>
          <p:cNvSpPr/>
          <p:nvPr/>
        </p:nvSpPr>
        <p:spPr>
          <a:xfrm flipV="1">
            <a:off x="6443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9"/>
          <p:cNvSpPr/>
          <p:nvPr/>
        </p:nvSpPr>
        <p:spPr>
          <a:xfrm>
            <a:off x="6443640" y="5877000"/>
            <a:ext cx="165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Line 10"/>
          <p:cNvSpPr/>
          <p:nvPr/>
        </p:nvSpPr>
        <p:spPr>
          <a:xfrm flipH="1">
            <a:off x="1908000" y="3933720"/>
            <a:ext cx="144000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11"/>
          <p:cNvSpPr/>
          <p:nvPr/>
        </p:nvSpPr>
        <p:spPr>
          <a:xfrm>
            <a:off x="1835280" y="3860640"/>
            <a:ext cx="151272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12"/>
          <p:cNvSpPr/>
          <p:nvPr/>
        </p:nvSpPr>
        <p:spPr>
          <a:xfrm flipH="1">
            <a:off x="6659280" y="3284640"/>
            <a:ext cx="86508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13"/>
          <p:cNvSpPr/>
          <p:nvPr/>
        </p:nvSpPr>
        <p:spPr>
          <a:xfrm>
            <a:off x="6732720" y="3429000"/>
            <a:ext cx="115236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14"/>
          <p:cNvSpPr/>
          <p:nvPr/>
        </p:nvSpPr>
        <p:spPr>
          <a:xfrm>
            <a:off x="1547640" y="472428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Line 15"/>
          <p:cNvSpPr/>
          <p:nvPr/>
        </p:nvSpPr>
        <p:spPr>
          <a:xfrm flipH="1">
            <a:off x="1547640" y="3860640"/>
            <a:ext cx="5545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16"/>
          <p:cNvSpPr/>
          <p:nvPr/>
        </p:nvSpPr>
        <p:spPr>
          <a:xfrm>
            <a:off x="1547640" y="4365720"/>
            <a:ext cx="604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17"/>
          <p:cNvSpPr/>
          <p:nvPr/>
        </p:nvSpPr>
        <p:spPr>
          <a:xfrm flipH="1">
            <a:off x="4716000" y="4076640"/>
            <a:ext cx="1150920" cy="64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18"/>
          <p:cNvSpPr/>
          <p:nvPr/>
        </p:nvSpPr>
        <p:spPr>
          <a:xfrm>
            <a:off x="4932360" y="4005360"/>
            <a:ext cx="863640" cy="79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19"/>
          <p:cNvSpPr/>
          <p:nvPr/>
        </p:nvSpPr>
        <p:spPr>
          <a:xfrm>
            <a:off x="255672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93" name="Text Box 20"/>
          <p:cNvSpPr/>
          <p:nvPr/>
        </p:nvSpPr>
        <p:spPr>
          <a:xfrm>
            <a:off x="7021080" y="4083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4" name="Text Box 21"/>
          <p:cNvSpPr/>
          <p:nvPr/>
        </p:nvSpPr>
        <p:spPr>
          <a:xfrm>
            <a:off x="1242000" y="4529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95" name="Text Box 22"/>
          <p:cNvSpPr/>
          <p:nvPr/>
        </p:nvSpPr>
        <p:spPr>
          <a:xfrm>
            <a:off x="6138000" y="3448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2</a:t>
            </a:r>
            <a:endParaRPr b="0" lang="en-US" sz="1800" spc="-1" strike="noStrike">
              <a:solidFill>
                <a:srgbClr val="003366"/>
              </a:solidFill>
              <a:latin typeface="Arial"/>
            </a:endParaRPr>
          </a:p>
        </p:txBody>
      </p:sp>
      <p:sp>
        <p:nvSpPr>
          <p:cNvPr id="196" name="Text Box 23"/>
          <p:cNvSpPr/>
          <p:nvPr/>
        </p:nvSpPr>
        <p:spPr>
          <a:xfrm>
            <a:off x="3905640" y="409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97" name="Text Box 24"/>
          <p:cNvSpPr/>
          <p:nvPr/>
        </p:nvSpPr>
        <p:spPr>
          <a:xfrm>
            <a:off x="3834000" y="308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98" name="Text Box 25"/>
          <p:cNvSpPr/>
          <p:nvPr/>
        </p:nvSpPr>
        <p:spPr>
          <a:xfrm>
            <a:off x="599436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提供曲线与贸易的动态均衡</a:t>
            </a:r>
            <a:endParaRPr b="1" lang="en-US" sz="20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01" name="Line 4"/>
          <p:cNvSpPr/>
          <p:nvPr/>
        </p:nvSpPr>
        <p:spPr>
          <a:xfrm flipV="1">
            <a:off x="2411280" y="2565000"/>
            <a:ext cx="0" cy="331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5"/>
          <p:cNvSpPr/>
          <p:nvPr/>
        </p:nvSpPr>
        <p:spPr>
          <a:xfrm>
            <a:off x="2411280" y="5877000"/>
            <a:ext cx="432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7"/>
          <p:cNvSpPr/>
          <p:nvPr/>
        </p:nvSpPr>
        <p:spPr>
          <a:xfrm>
            <a:off x="2392200" y="1714680"/>
            <a:ext cx="3432240" cy="4147920"/>
          </a:xfrm>
          <a:custGeom>
            <a:avLst/>
            <a:gdLst/>
            <a:ahLst/>
            <a:rect l="l" t="t" r="r" b="b"/>
            <a:pathLst>
              <a:path w="2162" h="2613">
                <a:moveTo>
                  <a:pt x="0" y="2613"/>
                </a:moveTo>
                <a:cubicBezTo>
                  <a:pt x="68" y="2608"/>
                  <a:pt x="137" y="2604"/>
                  <a:pt x="205" y="2597"/>
                </a:cubicBezTo>
                <a:cubicBezTo>
                  <a:pt x="256" y="2592"/>
                  <a:pt x="306" y="2564"/>
                  <a:pt x="355" y="2550"/>
                </a:cubicBezTo>
                <a:cubicBezTo>
                  <a:pt x="398" y="2524"/>
                  <a:pt x="436" y="2493"/>
                  <a:pt x="481" y="2471"/>
                </a:cubicBezTo>
                <a:cubicBezTo>
                  <a:pt x="545" y="2407"/>
                  <a:pt x="626" y="2373"/>
                  <a:pt x="702" y="2329"/>
                </a:cubicBezTo>
                <a:cubicBezTo>
                  <a:pt x="869" y="2232"/>
                  <a:pt x="655" y="2354"/>
                  <a:pt x="781" y="2266"/>
                </a:cubicBezTo>
                <a:cubicBezTo>
                  <a:pt x="853" y="2216"/>
                  <a:pt x="940" y="2178"/>
                  <a:pt x="1010" y="2124"/>
                </a:cubicBezTo>
                <a:cubicBezTo>
                  <a:pt x="1028" y="2110"/>
                  <a:pt x="1040" y="2090"/>
                  <a:pt x="1057" y="2076"/>
                </a:cubicBezTo>
                <a:cubicBezTo>
                  <a:pt x="1122" y="2022"/>
                  <a:pt x="1092" y="2066"/>
                  <a:pt x="1168" y="2013"/>
                </a:cubicBezTo>
                <a:cubicBezTo>
                  <a:pt x="1261" y="1948"/>
                  <a:pt x="1335" y="1857"/>
                  <a:pt x="1412" y="1776"/>
                </a:cubicBezTo>
                <a:cubicBezTo>
                  <a:pt x="1492" y="1693"/>
                  <a:pt x="1583" y="1620"/>
                  <a:pt x="1657" y="1532"/>
                </a:cubicBezTo>
                <a:cubicBezTo>
                  <a:pt x="1723" y="1454"/>
                  <a:pt x="1674" y="1496"/>
                  <a:pt x="1736" y="1405"/>
                </a:cubicBezTo>
                <a:cubicBezTo>
                  <a:pt x="1818" y="1284"/>
                  <a:pt x="1899" y="1182"/>
                  <a:pt x="1965" y="1050"/>
                </a:cubicBezTo>
                <a:cubicBezTo>
                  <a:pt x="2022" y="935"/>
                  <a:pt x="2048" y="794"/>
                  <a:pt x="2091" y="672"/>
                </a:cubicBezTo>
                <a:cubicBezTo>
                  <a:pt x="2120" y="591"/>
                  <a:pt x="2150" y="521"/>
                  <a:pt x="2162" y="435"/>
                </a:cubicBezTo>
                <a:cubicBezTo>
                  <a:pt x="2159" y="351"/>
                  <a:pt x="2158" y="266"/>
                  <a:pt x="2154" y="182"/>
                </a:cubicBezTo>
                <a:cubicBezTo>
                  <a:pt x="2145" y="0"/>
                  <a:pt x="2146" y="106"/>
                  <a:pt x="2146" y="12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9"/>
          <p:cNvSpPr/>
          <p:nvPr/>
        </p:nvSpPr>
        <p:spPr>
          <a:xfrm>
            <a:off x="2392200" y="3276720"/>
            <a:ext cx="4523040" cy="2598480"/>
          </a:xfrm>
          <a:custGeom>
            <a:avLst/>
            <a:gdLst/>
            <a:ahLst/>
            <a:rect l="l" t="t" r="r" b="b"/>
            <a:pathLst>
              <a:path w="2849" h="1637">
                <a:moveTo>
                  <a:pt x="0" y="1637"/>
                </a:moveTo>
                <a:cubicBezTo>
                  <a:pt x="20" y="1576"/>
                  <a:pt x="7" y="1497"/>
                  <a:pt x="40" y="1439"/>
                </a:cubicBezTo>
                <a:cubicBezTo>
                  <a:pt x="76" y="1376"/>
                  <a:pt x="59" y="1472"/>
                  <a:pt x="95" y="1368"/>
                </a:cubicBezTo>
                <a:cubicBezTo>
                  <a:pt x="110" y="1324"/>
                  <a:pt x="153" y="1278"/>
                  <a:pt x="182" y="1242"/>
                </a:cubicBezTo>
                <a:cubicBezTo>
                  <a:pt x="213" y="1203"/>
                  <a:pt x="232" y="1156"/>
                  <a:pt x="260" y="1116"/>
                </a:cubicBezTo>
                <a:cubicBezTo>
                  <a:pt x="299" y="1061"/>
                  <a:pt x="348" y="1014"/>
                  <a:pt x="402" y="974"/>
                </a:cubicBezTo>
                <a:cubicBezTo>
                  <a:pt x="443" y="913"/>
                  <a:pt x="387" y="988"/>
                  <a:pt x="450" y="934"/>
                </a:cubicBezTo>
                <a:cubicBezTo>
                  <a:pt x="460" y="926"/>
                  <a:pt x="465" y="913"/>
                  <a:pt x="473" y="903"/>
                </a:cubicBezTo>
                <a:cubicBezTo>
                  <a:pt x="500" y="872"/>
                  <a:pt x="505" y="871"/>
                  <a:pt x="537" y="848"/>
                </a:cubicBezTo>
                <a:cubicBezTo>
                  <a:pt x="591" y="762"/>
                  <a:pt x="728" y="654"/>
                  <a:pt x="805" y="587"/>
                </a:cubicBezTo>
                <a:cubicBezTo>
                  <a:pt x="974" y="440"/>
                  <a:pt x="1157" y="322"/>
                  <a:pt x="1349" y="208"/>
                </a:cubicBezTo>
                <a:cubicBezTo>
                  <a:pt x="1424" y="164"/>
                  <a:pt x="1522" y="146"/>
                  <a:pt x="1602" y="114"/>
                </a:cubicBezTo>
                <a:cubicBezTo>
                  <a:pt x="1672" y="87"/>
                  <a:pt x="1745" y="68"/>
                  <a:pt x="1815" y="43"/>
                </a:cubicBezTo>
                <a:cubicBezTo>
                  <a:pt x="1857" y="28"/>
                  <a:pt x="1897" y="3"/>
                  <a:pt x="1941" y="3"/>
                </a:cubicBezTo>
                <a:cubicBezTo>
                  <a:pt x="2244" y="0"/>
                  <a:pt x="2546" y="3"/>
                  <a:pt x="2849"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0"/>
          <p:cNvSpPr/>
          <p:nvPr/>
        </p:nvSpPr>
        <p:spPr>
          <a:xfrm flipV="1">
            <a:off x="2411280" y="2565360"/>
            <a:ext cx="4032360" cy="32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Freeform 11"/>
          <p:cNvSpPr/>
          <p:nvPr/>
        </p:nvSpPr>
        <p:spPr>
          <a:xfrm>
            <a:off x="2430360" y="2455920"/>
            <a:ext cx="4270320" cy="3394080"/>
          </a:xfrm>
          <a:custGeom>
            <a:avLst/>
            <a:gdLst/>
            <a:ahLst/>
            <a:rect l="l" t="t" r="r" b="b"/>
            <a:pathLst>
              <a:path w="2690" h="2138">
                <a:moveTo>
                  <a:pt x="0" y="2138"/>
                </a:moveTo>
                <a:cubicBezTo>
                  <a:pt x="131" y="2092"/>
                  <a:pt x="0" y="2135"/>
                  <a:pt x="363" y="2122"/>
                </a:cubicBezTo>
                <a:cubicBezTo>
                  <a:pt x="455" y="2119"/>
                  <a:pt x="547" y="2110"/>
                  <a:pt x="639" y="2106"/>
                </a:cubicBezTo>
                <a:cubicBezTo>
                  <a:pt x="683" y="2100"/>
                  <a:pt x="731" y="2097"/>
                  <a:pt x="773" y="2083"/>
                </a:cubicBezTo>
                <a:cubicBezTo>
                  <a:pt x="809" y="2071"/>
                  <a:pt x="832" y="2052"/>
                  <a:pt x="868" y="2043"/>
                </a:cubicBezTo>
                <a:cubicBezTo>
                  <a:pt x="898" y="2027"/>
                  <a:pt x="921" y="2020"/>
                  <a:pt x="954" y="2012"/>
                </a:cubicBezTo>
                <a:cubicBezTo>
                  <a:pt x="975" y="2007"/>
                  <a:pt x="1018" y="1996"/>
                  <a:pt x="1018" y="1996"/>
                </a:cubicBezTo>
                <a:cubicBezTo>
                  <a:pt x="1097" y="1955"/>
                  <a:pt x="1192" y="1931"/>
                  <a:pt x="1278" y="1909"/>
                </a:cubicBezTo>
                <a:cubicBezTo>
                  <a:pt x="1316" y="1883"/>
                  <a:pt x="1358" y="1863"/>
                  <a:pt x="1396" y="1838"/>
                </a:cubicBezTo>
                <a:cubicBezTo>
                  <a:pt x="1481" y="1781"/>
                  <a:pt x="1429" y="1801"/>
                  <a:pt x="1483" y="1783"/>
                </a:cubicBezTo>
                <a:cubicBezTo>
                  <a:pt x="1509" y="1757"/>
                  <a:pt x="1529" y="1744"/>
                  <a:pt x="1562" y="1728"/>
                </a:cubicBezTo>
                <a:cubicBezTo>
                  <a:pt x="1591" y="1699"/>
                  <a:pt x="1623" y="1688"/>
                  <a:pt x="1657" y="1664"/>
                </a:cubicBezTo>
                <a:cubicBezTo>
                  <a:pt x="1679" y="1649"/>
                  <a:pt x="1705" y="1639"/>
                  <a:pt x="1720" y="1617"/>
                </a:cubicBezTo>
                <a:cubicBezTo>
                  <a:pt x="1725" y="1609"/>
                  <a:pt x="1729" y="1600"/>
                  <a:pt x="1736" y="1593"/>
                </a:cubicBezTo>
                <a:cubicBezTo>
                  <a:pt x="1758" y="1571"/>
                  <a:pt x="1785" y="1552"/>
                  <a:pt x="1807" y="1530"/>
                </a:cubicBezTo>
                <a:cubicBezTo>
                  <a:pt x="1815" y="1522"/>
                  <a:pt x="1830" y="1507"/>
                  <a:pt x="1830" y="1507"/>
                </a:cubicBezTo>
                <a:cubicBezTo>
                  <a:pt x="1845" y="1463"/>
                  <a:pt x="1877" y="1427"/>
                  <a:pt x="1901" y="1388"/>
                </a:cubicBezTo>
                <a:cubicBezTo>
                  <a:pt x="1913" y="1369"/>
                  <a:pt x="1941" y="1333"/>
                  <a:pt x="1941" y="1333"/>
                </a:cubicBezTo>
                <a:cubicBezTo>
                  <a:pt x="1955" y="1290"/>
                  <a:pt x="1990" y="1247"/>
                  <a:pt x="2028" y="1223"/>
                </a:cubicBezTo>
                <a:cubicBezTo>
                  <a:pt x="2041" y="1204"/>
                  <a:pt x="2051" y="1183"/>
                  <a:pt x="2067" y="1167"/>
                </a:cubicBezTo>
                <a:cubicBezTo>
                  <a:pt x="2075" y="1159"/>
                  <a:pt x="2084" y="1153"/>
                  <a:pt x="2091" y="1144"/>
                </a:cubicBezTo>
                <a:cubicBezTo>
                  <a:pt x="2109" y="1123"/>
                  <a:pt x="2114" y="1096"/>
                  <a:pt x="2130" y="1073"/>
                </a:cubicBezTo>
                <a:cubicBezTo>
                  <a:pt x="2150" y="1014"/>
                  <a:pt x="2197" y="951"/>
                  <a:pt x="2241" y="907"/>
                </a:cubicBezTo>
                <a:cubicBezTo>
                  <a:pt x="2253" y="871"/>
                  <a:pt x="2285" y="839"/>
                  <a:pt x="2312" y="812"/>
                </a:cubicBezTo>
                <a:cubicBezTo>
                  <a:pt x="2324" y="776"/>
                  <a:pt x="2356" y="744"/>
                  <a:pt x="2383" y="718"/>
                </a:cubicBezTo>
                <a:cubicBezTo>
                  <a:pt x="2410" y="661"/>
                  <a:pt x="2450" y="612"/>
                  <a:pt x="2485" y="560"/>
                </a:cubicBezTo>
                <a:cubicBezTo>
                  <a:pt x="2511" y="522"/>
                  <a:pt x="2532" y="481"/>
                  <a:pt x="2564" y="449"/>
                </a:cubicBezTo>
                <a:cubicBezTo>
                  <a:pt x="2577" y="410"/>
                  <a:pt x="2604" y="380"/>
                  <a:pt x="2627" y="347"/>
                </a:cubicBezTo>
                <a:cubicBezTo>
                  <a:pt x="2645" y="322"/>
                  <a:pt x="2649" y="293"/>
                  <a:pt x="2667" y="268"/>
                </a:cubicBezTo>
                <a:cubicBezTo>
                  <a:pt x="2685" y="177"/>
                  <a:pt x="2690" y="93"/>
                  <a:pt x="2690"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2"/>
          <p:cNvSpPr/>
          <p:nvPr/>
        </p:nvSpPr>
        <p:spPr>
          <a:xfrm>
            <a:off x="5202360" y="28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3"/>
          <p:cNvSpPr/>
          <p:nvPr/>
        </p:nvSpPr>
        <p:spPr>
          <a:xfrm>
            <a:off x="642636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9" name="Text Box 14"/>
          <p:cNvSpPr/>
          <p:nvPr/>
        </p:nvSpPr>
        <p:spPr>
          <a:xfrm>
            <a:off x="685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0" name="Text Box 15"/>
          <p:cNvSpPr/>
          <p:nvPr/>
        </p:nvSpPr>
        <p:spPr>
          <a:xfrm>
            <a:off x="2105280" y="2440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a:t>
            </a:r>
            <a:r>
              <a:rPr b="0" lang="zh-CN" sz="2000" spc="-1" strike="noStrike">
                <a:solidFill>
                  <a:srgbClr val="003366"/>
                </a:solidFill>
                <a:latin typeface="Arial"/>
              </a:rPr>
              <a:t>贸易条件及其度量</a:t>
            </a:r>
            <a:endParaRPr b="1" lang="en-US" sz="20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贸易条件（</a:t>
            </a:r>
            <a:r>
              <a:rPr b="0" lang="en-US" sz="2000" spc="-1" strike="noStrike">
                <a:solidFill>
                  <a:srgbClr val="003366"/>
                </a:solidFill>
                <a:latin typeface="Arial"/>
              </a:rPr>
              <a:t>terms of trade</a:t>
            </a:r>
            <a:r>
              <a:rPr b="0" lang="zh-CN" sz="2000" spc="-1" strike="noStrike">
                <a:solidFill>
                  <a:srgbClr val="003366"/>
                </a:solidFill>
                <a:latin typeface="Arial"/>
              </a:rPr>
              <a:t>）是指一国出口商品价格和该国进口商品价格的比值。在一个两国世界中，一国的出口正是其贸易伙伴的进口，所以，在两国条件下，一国的贸易条件等于另一国贸易条件的倒数。</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一个具有多种贸易商品（不只两种）的世界中，贸易条件定义为一国出口商品价格指数与该国进口商品价格指数的比值。这个比值通常要乘以</a:t>
            </a:r>
            <a:r>
              <a:rPr b="0" lang="en-US" sz="2000" spc="-1" strike="noStrike">
                <a:solidFill>
                  <a:srgbClr val="003366"/>
                </a:solidFill>
                <a:latin typeface="Arial"/>
              </a:rPr>
              <a:t>100</a:t>
            </a:r>
            <a:r>
              <a:rPr b="0" lang="zh-CN" sz="2000" spc="-1" strike="noStrike">
                <a:solidFill>
                  <a:srgbClr val="003366"/>
                </a:solidFill>
                <a:latin typeface="Arial"/>
              </a:rPr>
              <a:t>，以百分比的形式表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由于供给与需求的倾向随时间不断变化，提供曲线也会发生移动，从而改变贸易额和贸易条件。一国贸易条件的改善，通常是指该国出口商品价格相对与其进口商品价格有所提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贸易利益的构成</a:t>
            </a:r>
            <a:endParaRPr b="1" lang="en-US" sz="2000" spc="-1" strike="noStrike">
              <a:solidFill>
                <a:srgbClr val="006666"/>
              </a:solidFill>
              <a:latin typeface="Arial"/>
            </a:endParaRPr>
          </a:p>
        </p:txBody>
      </p:sp>
      <p:sp>
        <p:nvSpPr>
          <p:cNvPr id="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国际交换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资源配置不变、产出不变的情况下，一部分产品以国际价格而非国内价格进行贸易。图中，</a:t>
            </a:r>
            <a:r>
              <a:rPr b="0" lang="en-US" sz="2000" spc="-1" strike="noStrike">
                <a:solidFill>
                  <a:srgbClr val="003366"/>
                </a:solidFill>
                <a:latin typeface="Arial"/>
              </a:rPr>
              <a:t>Ta, Tw</a:t>
            </a:r>
            <a:r>
              <a:rPr b="0" lang="zh-CN" sz="2000" spc="-1" strike="noStrike">
                <a:solidFill>
                  <a:srgbClr val="003366"/>
                </a:solidFill>
                <a:latin typeface="Arial"/>
              </a:rPr>
              <a:t>分别为国内交易和国际交换的价格线，商品按</a:t>
            </a:r>
            <a:r>
              <a:rPr b="0" lang="en-US" sz="2000" spc="-1" strike="noStrike">
                <a:solidFill>
                  <a:srgbClr val="003366"/>
                </a:solidFill>
                <a:latin typeface="Arial"/>
              </a:rPr>
              <a:t>Ta</a:t>
            </a:r>
            <a:r>
              <a:rPr b="0" lang="zh-CN" sz="2000" spc="-1" strike="noStrike">
                <a:solidFill>
                  <a:srgbClr val="003366"/>
                </a:solidFill>
                <a:latin typeface="Arial"/>
              </a:rPr>
              <a:t>变成按</a:t>
            </a:r>
            <a:r>
              <a:rPr b="0" lang="en-US" sz="2000" spc="-1" strike="noStrike">
                <a:solidFill>
                  <a:srgbClr val="003366"/>
                </a:solidFill>
                <a:latin typeface="Arial"/>
              </a:rPr>
              <a:t>Tw</a:t>
            </a:r>
            <a:r>
              <a:rPr b="0" lang="zh-CN" sz="2000" spc="-1" strike="noStrike">
                <a:solidFill>
                  <a:srgbClr val="003366"/>
                </a:solidFill>
                <a:latin typeface="Arial"/>
              </a:rPr>
              <a:t>交换，无差异曲线从</a:t>
            </a:r>
            <a:r>
              <a:rPr b="0" lang="en-US" sz="2000" spc="-1" strike="noStrike">
                <a:solidFill>
                  <a:srgbClr val="003366"/>
                </a:solidFill>
                <a:latin typeface="Arial"/>
              </a:rPr>
              <a:t>I</a:t>
            </a:r>
            <a:r>
              <a:rPr b="0" lang="zh-CN" sz="2000" spc="-1" strike="noStrike">
                <a:solidFill>
                  <a:srgbClr val="003366"/>
                </a:solidFill>
                <a:latin typeface="Arial"/>
              </a:rPr>
              <a:t>提高到</a:t>
            </a:r>
            <a:r>
              <a:rPr b="0" lang="en-US" sz="2000" spc="-1" strike="noStrike">
                <a:solidFill>
                  <a:srgbClr val="003366"/>
                </a:solidFill>
                <a:latin typeface="Arial"/>
              </a:rPr>
              <a:t>II</a:t>
            </a:r>
            <a:r>
              <a:rPr b="0" lang="zh-CN" sz="2000" spc="-1" strike="noStrike">
                <a:solidFill>
                  <a:srgbClr val="003366"/>
                </a:solidFill>
                <a:latin typeface="Arial"/>
              </a:rPr>
              <a:t>，与国际价格线相切于</a:t>
            </a:r>
            <a:r>
              <a:rPr b="0" lang="en-US" sz="2000" spc="-1" strike="noStrike">
                <a:solidFill>
                  <a:srgbClr val="003366"/>
                </a:solidFill>
                <a:latin typeface="Arial"/>
              </a:rPr>
              <a:t>B</a:t>
            </a:r>
            <a:r>
              <a:rPr b="0" lang="zh-CN" sz="2000" spc="-1" strike="noStrike">
                <a:solidFill>
                  <a:srgbClr val="003366"/>
                </a:solidFill>
                <a:latin typeface="Arial"/>
              </a:rPr>
              <a:t>点，与国内价格线相切于</a:t>
            </a:r>
            <a:r>
              <a:rPr b="0" lang="en-US" sz="2000" spc="-1" strike="noStrike">
                <a:solidFill>
                  <a:srgbClr val="003366"/>
                </a:solidFill>
                <a:latin typeface="Arial"/>
              </a:rPr>
              <a:t>A</a:t>
            </a:r>
            <a:r>
              <a:rPr b="0" lang="zh-CN" sz="2000" spc="-1" strike="noStrike">
                <a:solidFill>
                  <a:srgbClr val="003366"/>
                </a:solidFill>
                <a:latin typeface="Arial"/>
              </a:rPr>
              <a:t>点，福利水平提高。</a:t>
            </a:r>
            <a:endParaRPr b="0" lang="en-US" sz="2000" spc="-1" strike="noStrike">
              <a:solidFill>
                <a:srgbClr val="003366"/>
              </a:solidFill>
              <a:latin typeface="Arial"/>
            </a:endParaRPr>
          </a:p>
        </p:txBody>
      </p:sp>
      <p:sp>
        <p:nvSpPr>
          <p:cNvPr id="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00" name="Line 5"/>
          <p:cNvSpPr/>
          <p:nvPr/>
        </p:nvSpPr>
        <p:spPr>
          <a:xfrm flipV="1">
            <a:off x="5148360" y="2707920"/>
            <a:ext cx="0" cy="33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Line 6"/>
          <p:cNvSpPr/>
          <p:nvPr/>
        </p:nvSpPr>
        <p:spPr>
          <a:xfrm>
            <a:off x="5148360" y="602136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 name="Freeform 7"/>
          <p:cNvSpPr/>
          <p:nvPr/>
        </p:nvSpPr>
        <p:spPr>
          <a:xfrm>
            <a:off x="5135400" y="4421160"/>
            <a:ext cx="2360880" cy="1620720"/>
          </a:xfrm>
          <a:custGeom>
            <a:avLst/>
            <a:gdLst/>
            <a:ahLst/>
            <a:rect l="l" t="t" r="r" b="b"/>
            <a:pathLst>
              <a:path w="1487" h="1021">
                <a:moveTo>
                  <a:pt x="0" y="71"/>
                </a:moveTo>
                <a:cubicBezTo>
                  <a:pt x="24" y="56"/>
                  <a:pt x="48" y="45"/>
                  <a:pt x="71" y="32"/>
                </a:cubicBezTo>
                <a:cubicBezTo>
                  <a:pt x="88" y="23"/>
                  <a:pt x="118" y="0"/>
                  <a:pt x="118" y="0"/>
                </a:cubicBezTo>
                <a:cubicBezTo>
                  <a:pt x="187" y="7"/>
                  <a:pt x="258" y="2"/>
                  <a:pt x="324" y="24"/>
                </a:cubicBezTo>
                <a:cubicBezTo>
                  <a:pt x="370" y="39"/>
                  <a:pt x="396" y="60"/>
                  <a:pt x="450" y="71"/>
                </a:cubicBezTo>
                <a:cubicBezTo>
                  <a:pt x="458" y="76"/>
                  <a:pt x="464" y="84"/>
                  <a:pt x="473" y="87"/>
                </a:cubicBezTo>
                <a:cubicBezTo>
                  <a:pt x="494" y="95"/>
                  <a:pt x="537" y="103"/>
                  <a:pt x="537" y="103"/>
                </a:cubicBezTo>
                <a:cubicBezTo>
                  <a:pt x="575" y="122"/>
                  <a:pt x="655" y="150"/>
                  <a:pt x="655" y="150"/>
                </a:cubicBezTo>
                <a:cubicBezTo>
                  <a:pt x="687" y="182"/>
                  <a:pt x="716" y="197"/>
                  <a:pt x="758" y="213"/>
                </a:cubicBezTo>
                <a:cubicBezTo>
                  <a:pt x="823" y="264"/>
                  <a:pt x="899" y="306"/>
                  <a:pt x="971" y="347"/>
                </a:cubicBezTo>
                <a:cubicBezTo>
                  <a:pt x="1010" y="369"/>
                  <a:pt x="994" y="374"/>
                  <a:pt x="1042" y="411"/>
                </a:cubicBezTo>
                <a:cubicBezTo>
                  <a:pt x="1076" y="438"/>
                  <a:pt x="1130" y="467"/>
                  <a:pt x="1168" y="490"/>
                </a:cubicBezTo>
                <a:cubicBezTo>
                  <a:pt x="1190" y="522"/>
                  <a:pt x="1223" y="537"/>
                  <a:pt x="1247" y="568"/>
                </a:cubicBezTo>
                <a:cubicBezTo>
                  <a:pt x="1283" y="614"/>
                  <a:pt x="1319" y="704"/>
                  <a:pt x="1357" y="742"/>
                </a:cubicBezTo>
                <a:cubicBezTo>
                  <a:pt x="1385" y="770"/>
                  <a:pt x="1391" y="797"/>
                  <a:pt x="1412" y="829"/>
                </a:cubicBezTo>
                <a:cubicBezTo>
                  <a:pt x="1424" y="848"/>
                  <a:pt x="1452" y="884"/>
                  <a:pt x="1452" y="884"/>
                </a:cubicBezTo>
                <a:cubicBezTo>
                  <a:pt x="1461" y="919"/>
                  <a:pt x="1473" y="952"/>
                  <a:pt x="1483" y="987"/>
                </a:cubicBezTo>
                <a:cubicBezTo>
                  <a:pt x="1475" y="1021"/>
                  <a:pt x="1487" y="1018"/>
                  <a:pt x="1468" y="10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Line 8"/>
          <p:cNvSpPr/>
          <p:nvPr/>
        </p:nvSpPr>
        <p:spPr>
          <a:xfrm>
            <a:off x="5219640" y="4365720"/>
            <a:ext cx="237672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10"/>
          <p:cNvSpPr/>
          <p:nvPr/>
        </p:nvSpPr>
        <p:spPr>
          <a:xfrm>
            <a:off x="5219640" y="3933720"/>
            <a:ext cx="151308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Freeform 11"/>
          <p:cNvSpPr/>
          <p:nvPr/>
        </p:nvSpPr>
        <p:spPr>
          <a:xfrm>
            <a:off x="5288040" y="4208400"/>
            <a:ext cx="1425600" cy="212760"/>
          </a:xfrm>
          <a:custGeom>
            <a:avLst/>
            <a:gdLst/>
            <a:ahLst/>
            <a:rect l="l" t="t" r="r" b="b"/>
            <a:pathLst>
              <a:path w="898" h="134">
                <a:moveTo>
                  <a:pt x="30" y="48"/>
                </a:moveTo>
                <a:cubicBezTo>
                  <a:pt x="110" y="98"/>
                  <a:pt x="0" y="24"/>
                  <a:pt x="70" y="87"/>
                </a:cubicBezTo>
                <a:cubicBezTo>
                  <a:pt x="104" y="117"/>
                  <a:pt x="125" y="120"/>
                  <a:pt x="164" y="134"/>
                </a:cubicBezTo>
                <a:cubicBezTo>
                  <a:pt x="325" y="131"/>
                  <a:pt x="485" y="133"/>
                  <a:pt x="646" y="126"/>
                </a:cubicBezTo>
                <a:cubicBezTo>
                  <a:pt x="655" y="126"/>
                  <a:pt x="661" y="115"/>
                  <a:pt x="669" y="111"/>
                </a:cubicBezTo>
                <a:cubicBezTo>
                  <a:pt x="711" y="93"/>
                  <a:pt x="759" y="82"/>
                  <a:pt x="804" y="71"/>
                </a:cubicBezTo>
                <a:cubicBezTo>
                  <a:pt x="828" y="55"/>
                  <a:pt x="848" y="41"/>
                  <a:pt x="875" y="32"/>
                </a:cubicBezTo>
                <a:cubicBezTo>
                  <a:pt x="892" y="5"/>
                  <a:pt x="883" y="15"/>
                  <a:pt x="898"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Freeform 16"/>
          <p:cNvSpPr/>
          <p:nvPr/>
        </p:nvSpPr>
        <p:spPr>
          <a:xfrm>
            <a:off x="5364000" y="3860640"/>
            <a:ext cx="700200" cy="401760"/>
          </a:xfrm>
          <a:custGeom>
            <a:avLst/>
            <a:gdLst/>
            <a:ahLst/>
            <a:rect l="l" t="t" r="r" b="b"/>
            <a:pathLst>
              <a:path w="441" h="253">
                <a:moveTo>
                  <a:pt x="39" y="0"/>
                </a:moveTo>
                <a:cubicBezTo>
                  <a:pt x="10" y="43"/>
                  <a:pt x="15" y="100"/>
                  <a:pt x="0" y="150"/>
                </a:cubicBezTo>
                <a:cubicBezTo>
                  <a:pt x="30" y="253"/>
                  <a:pt x="299" y="183"/>
                  <a:pt x="362" y="182"/>
                </a:cubicBezTo>
                <a:cubicBezTo>
                  <a:pt x="399" y="157"/>
                  <a:pt x="409" y="160"/>
                  <a:pt x="426" y="126"/>
                </a:cubicBezTo>
                <a:cubicBezTo>
                  <a:pt x="433" y="111"/>
                  <a:pt x="441" y="79"/>
                  <a:pt x="441" y="7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Text Box 17"/>
          <p:cNvSpPr/>
          <p:nvPr/>
        </p:nvSpPr>
        <p:spPr>
          <a:xfrm>
            <a:off x="6687720" y="4010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18"/>
          <p:cNvSpPr/>
          <p:nvPr/>
        </p:nvSpPr>
        <p:spPr>
          <a:xfrm>
            <a:off x="6132960" y="357840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9" name="Text Box 19"/>
          <p:cNvSpPr/>
          <p:nvPr/>
        </p:nvSpPr>
        <p:spPr>
          <a:xfrm>
            <a:off x="7650000" y="46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10" name="Text Box 20"/>
          <p:cNvSpPr/>
          <p:nvPr/>
        </p:nvSpPr>
        <p:spPr>
          <a:xfrm>
            <a:off x="6642000" y="560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111" name="Text Box 21"/>
          <p:cNvSpPr/>
          <p:nvPr/>
        </p:nvSpPr>
        <p:spPr>
          <a:xfrm>
            <a:off x="541836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12" name="Text Box 22"/>
          <p:cNvSpPr/>
          <p:nvPr/>
        </p:nvSpPr>
        <p:spPr>
          <a:xfrm>
            <a:off x="5345280" y="3808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13" name="Text Box 23"/>
          <p:cNvSpPr/>
          <p:nvPr/>
        </p:nvSpPr>
        <p:spPr>
          <a:xfrm>
            <a:off x="801072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4" name="Text Box 24"/>
          <p:cNvSpPr/>
          <p:nvPr/>
        </p:nvSpPr>
        <p:spPr>
          <a:xfrm>
            <a:off x="5221440" y="270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2.</a:t>
            </a:r>
            <a:r>
              <a:rPr b="1" lang="zh-CN" sz="1600" spc="-1" strike="noStrike">
                <a:solidFill>
                  <a:srgbClr val="006666"/>
                </a:solidFill>
                <a:latin typeface="Arial"/>
              </a:rPr>
              <a:t>基于国际分工的贸易利益</a:t>
            </a:r>
            <a:endParaRPr b="1" lang="en-US" sz="1600" spc="-1" strike="noStrike">
              <a:solidFill>
                <a:srgbClr val="006666"/>
              </a:solidFill>
              <a:latin typeface="Arial"/>
            </a:endParaRPr>
          </a:p>
        </p:txBody>
      </p:sp>
      <p:sp>
        <p:nvSpPr>
          <p:cNvPr id="11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源于资源按照比较利益进行的重新配置。图中，</a:t>
            </a:r>
            <a:r>
              <a:rPr b="0" lang="en-US" sz="2000" spc="-1" strike="noStrike">
                <a:solidFill>
                  <a:srgbClr val="003366"/>
                </a:solidFill>
                <a:latin typeface="Arial"/>
              </a:rPr>
              <a:t>A</a:t>
            </a:r>
            <a:r>
              <a:rPr b="0" lang="zh-CN" sz="2000" spc="-1" strike="noStrike">
                <a:solidFill>
                  <a:srgbClr val="003366"/>
                </a:solidFill>
                <a:latin typeface="Arial"/>
              </a:rPr>
              <a:t>点并不是该国生产、交换所处的最佳点。国内资源因国际价格较高、交换有利可图而重新配置，生产点从</a:t>
            </a:r>
            <a:r>
              <a:rPr b="0" lang="en-US" sz="2000" spc="-1" strike="noStrike">
                <a:solidFill>
                  <a:srgbClr val="003366"/>
                </a:solidFill>
                <a:latin typeface="Arial"/>
              </a:rPr>
              <a:t>A</a:t>
            </a:r>
            <a:r>
              <a:rPr b="0" lang="zh-CN" sz="2000" spc="-1" strike="noStrike">
                <a:solidFill>
                  <a:srgbClr val="003366"/>
                </a:solidFill>
                <a:latin typeface="Arial"/>
              </a:rPr>
              <a:t>移向</a:t>
            </a:r>
            <a:r>
              <a:rPr b="0" lang="en-US" sz="2000" spc="-1" strike="noStrike">
                <a:solidFill>
                  <a:srgbClr val="003366"/>
                </a:solidFill>
                <a:latin typeface="Arial"/>
              </a:rPr>
              <a:t>A’</a:t>
            </a:r>
            <a:r>
              <a:rPr b="0" lang="zh-CN" sz="2000" spc="-1" strike="noStrike">
                <a:solidFill>
                  <a:srgbClr val="003366"/>
                </a:solidFill>
                <a:latin typeface="Arial"/>
              </a:rPr>
              <a:t>，无差异曲线与国际价格线相切于</a:t>
            </a:r>
            <a:r>
              <a:rPr b="0" lang="en-US" sz="2000" spc="-1" strike="noStrike">
                <a:solidFill>
                  <a:srgbClr val="003366"/>
                </a:solidFill>
                <a:latin typeface="Arial"/>
              </a:rPr>
              <a:t>D</a:t>
            </a:r>
            <a:r>
              <a:rPr b="0" lang="zh-CN" sz="2000" spc="-1" strike="noStrike">
                <a:solidFill>
                  <a:srgbClr val="003366"/>
                </a:solidFill>
                <a:latin typeface="Arial"/>
              </a:rPr>
              <a:t>点，为</a:t>
            </a:r>
            <a:r>
              <a:rPr b="0" lang="en-US" sz="2000" spc="-1" strike="noStrike">
                <a:solidFill>
                  <a:srgbClr val="003366"/>
                </a:solidFill>
                <a:latin typeface="Arial"/>
              </a:rPr>
              <a:t>III</a:t>
            </a:r>
            <a:r>
              <a:rPr b="0" lang="zh-CN" sz="2000" spc="-1" strike="noStrike">
                <a:solidFill>
                  <a:srgbClr val="003366"/>
                </a:solidFill>
                <a:latin typeface="Arial"/>
              </a:rPr>
              <a:t>。</a:t>
            </a:r>
            <a:endParaRPr b="0" lang="en-US" sz="2000" spc="-1" strike="noStrike">
              <a:solidFill>
                <a:srgbClr val="003366"/>
              </a:solidFill>
              <a:latin typeface="Arial"/>
            </a:endParaRPr>
          </a:p>
        </p:txBody>
      </p:sp>
      <p:sp>
        <p:nvSpPr>
          <p:cNvPr id="11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18" name="Line 6"/>
          <p:cNvSpPr/>
          <p:nvPr/>
        </p:nvSpPr>
        <p:spPr>
          <a:xfrm flipV="1">
            <a:off x="5292720" y="2707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7"/>
          <p:cNvSpPr/>
          <p:nvPr/>
        </p:nvSpPr>
        <p:spPr>
          <a:xfrm>
            <a:off x="529272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Freeform 8"/>
          <p:cNvSpPr/>
          <p:nvPr/>
        </p:nvSpPr>
        <p:spPr>
          <a:xfrm>
            <a:off x="5299200" y="4564080"/>
            <a:ext cx="2509560" cy="1314360"/>
          </a:xfrm>
          <a:custGeom>
            <a:avLst/>
            <a:gdLst/>
            <a:ahLst/>
            <a:rect l="l" t="t" r="r" b="b"/>
            <a:pathLst>
              <a:path w="1581" h="828">
                <a:moveTo>
                  <a:pt x="0" y="68"/>
                </a:moveTo>
                <a:cubicBezTo>
                  <a:pt x="263" y="0"/>
                  <a:pt x="464" y="91"/>
                  <a:pt x="702" y="139"/>
                </a:cubicBezTo>
                <a:cubicBezTo>
                  <a:pt x="763" y="186"/>
                  <a:pt x="699" y="144"/>
                  <a:pt x="781" y="171"/>
                </a:cubicBezTo>
                <a:cubicBezTo>
                  <a:pt x="790" y="174"/>
                  <a:pt x="796" y="182"/>
                  <a:pt x="804" y="186"/>
                </a:cubicBezTo>
                <a:cubicBezTo>
                  <a:pt x="838" y="201"/>
                  <a:pt x="857" y="203"/>
                  <a:pt x="891" y="210"/>
                </a:cubicBezTo>
                <a:cubicBezTo>
                  <a:pt x="944" y="245"/>
                  <a:pt x="880" y="207"/>
                  <a:pt x="962" y="234"/>
                </a:cubicBezTo>
                <a:cubicBezTo>
                  <a:pt x="989" y="243"/>
                  <a:pt x="1054" y="267"/>
                  <a:pt x="1081" y="281"/>
                </a:cubicBezTo>
                <a:cubicBezTo>
                  <a:pt x="1135" y="309"/>
                  <a:pt x="1172" y="330"/>
                  <a:pt x="1223" y="368"/>
                </a:cubicBezTo>
                <a:cubicBezTo>
                  <a:pt x="1263" y="398"/>
                  <a:pt x="1307" y="427"/>
                  <a:pt x="1349" y="455"/>
                </a:cubicBezTo>
                <a:cubicBezTo>
                  <a:pt x="1365" y="465"/>
                  <a:pt x="1396" y="486"/>
                  <a:pt x="1396" y="486"/>
                </a:cubicBezTo>
                <a:cubicBezTo>
                  <a:pt x="1439" y="550"/>
                  <a:pt x="1383" y="473"/>
                  <a:pt x="1436" y="526"/>
                </a:cubicBezTo>
                <a:cubicBezTo>
                  <a:pt x="1458" y="548"/>
                  <a:pt x="1471" y="570"/>
                  <a:pt x="1499" y="589"/>
                </a:cubicBezTo>
                <a:cubicBezTo>
                  <a:pt x="1513" y="631"/>
                  <a:pt x="1502" y="606"/>
                  <a:pt x="1538" y="660"/>
                </a:cubicBezTo>
                <a:cubicBezTo>
                  <a:pt x="1555" y="686"/>
                  <a:pt x="1560" y="733"/>
                  <a:pt x="1570" y="762"/>
                </a:cubicBezTo>
                <a:cubicBezTo>
                  <a:pt x="1581" y="828"/>
                  <a:pt x="1578" y="826"/>
                  <a:pt x="1578" y="7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9"/>
          <p:cNvSpPr/>
          <p:nvPr/>
        </p:nvSpPr>
        <p:spPr>
          <a:xfrm>
            <a:off x="5364000" y="4508640"/>
            <a:ext cx="2664000" cy="64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0"/>
          <p:cNvSpPr/>
          <p:nvPr/>
        </p:nvSpPr>
        <p:spPr>
          <a:xfrm>
            <a:off x="5940360" y="3284640"/>
            <a:ext cx="2016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Freeform 12"/>
          <p:cNvSpPr/>
          <p:nvPr/>
        </p:nvSpPr>
        <p:spPr>
          <a:xfrm>
            <a:off x="5940360" y="4149720"/>
            <a:ext cx="976320" cy="576360"/>
          </a:xfrm>
          <a:custGeom>
            <a:avLst/>
            <a:gdLst/>
            <a:ahLst/>
            <a:rect l="l" t="t" r="r" b="b"/>
            <a:pathLst>
              <a:path w="615" h="363">
                <a:moveTo>
                  <a:pt x="0" y="0"/>
                </a:moveTo>
                <a:cubicBezTo>
                  <a:pt x="7" y="98"/>
                  <a:pt x="12" y="176"/>
                  <a:pt x="55" y="261"/>
                </a:cubicBezTo>
                <a:cubicBezTo>
                  <a:pt x="62" y="275"/>
                  <a:pt x="78" y="323"/>
                  <a:pt x="87" y="332"/>
                </a:cubicBezTo>
                <a:cubicBezTo>
                  <a:pt x="89" y="335"/>
                  <a:pt x="131" y="346"/>
                  <a:pt x="134" y="347"/>
                </a:cubicBezTo>
                <a:cubicBezTo>
                  <a:pt x="150" y="352"/>
                  <a:pt x="182" y="363"/>
                  <a:pt x="182" y="363"/>
                </a:cubicBezTo>
                <a:cubicBezTo>
                  <a:pt x="288" y="345"/>
                  <a:pt x="159" y="363"/>
                  <a:pt x="339" y="363"/>
                </a:cubicBezTo>
                <a:cubicBezTo>
                  <a:pt x="431" y="363"/>
                  <a:pt x="523" y="355"/>
                  <a:pt x="615" y="3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Freeform 13"/>
          <p:cNvSpPr/>
          <p:nvPr/>
        </p:nvSpPr>
        <p:spPr>
          <a:xfrm>
            <a:off x="6291360" y="3257640"/>
            <a:ext cx="1198440" cy="687240"/>
          </a:xfrm>
          <a:custGeom>
            <a:avLst/>
            <a:gdLst/>
            <a:ahLst/>
            <a:rect l="l" t="t" r="r" b="b"/>
            <a:pathLst>
              <a:path w="755" h="433">
                <a:moveTo>
                  <a:pt x="14" y="0"/>
                </a:moveTo>
                <a:cubicBezTo>
                  <a:pt x="7" y="104"/>
                  <a:pt x="0" y="213"/>
                  <a:pt x="30" y="315"/>
                </a:cubicBezTo>
                <a:cubicBezTo>
                  <a:pt x="40" y="351"/>
                  <a:pt x="44" y="388"/>
                  <a:pt x="77" y="410"/>
                </a:cubicBezTo>
                <a:cubicBezTo>
                  <a:pt x="100" y="426"/>
                  <a:pt x="137" y="425"/>
                  <a:pt x="164" y="433"/>
                </a:cubicBezTo>
                <a:cubicBezTo>
                  <a:pt x="301" y="431"/>
                  <a:pt x="437" y="433"/>
                  <a:pt x="574" y="426"/>
                </a:cubicBezTo>
                <a:cubicBezTo>
                  <a:pt x="591" y="425"/>
                  <a:pt x="621" y="410"/>
                  <a:pt x="621" y="410"/>
                </a:cubicBezTo>
                <a:cubicBezTo>
                  <a:pt x="647" y="384"/>
                  <a:pt x="680" y="365"/>
                  <a:pt x="716" y="355"/>
                </a:cubicBezTo>
                <a:cubicBezTo>
                  <a:pt x="746" y="335"/>
                  <a:pt x="733" y="346"/>
                  <a:pt x="755" y="32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14"/>
          <p:cNvSpPr/>
          <p:nvPr/>
        </p:nvSpPr>
        <p:spPr>
          <a:xfrm>
            <a:off x="4913280" y="2655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6" name="Text Box 15"/>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27" name="Text Box 16"/>
          <p:cNvSpPr/>
          <p:nvPr/>
        </p:nvSpPr>
        <p:spPr>
          <a:xfrm>
            <a:off x="5921640" y="4673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8" name="Text Box 17"/>
          <p:cNvSpPr/>
          <p:nvPr/>
        </p:nvSpPr>
        <p:spPr>
          <a:xfrm>
            <a:off x="7434360" y="53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6353280" y="35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30" name="Text Box 19"/>
          <p:cNvSpPr/>
          <p:nvPr/>
        </p:nvSpPr>
        <p:spPr>
          <a:xfrm>
            <a:off x="6832440" y="44416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1" name="Text Box 20"/>
          <p:cNvSpPr/>
          <p:nvPr/>
        </p:nvSpPr>
        <p:spPr>
          <a:xfrm>
            <a:off x="7501320" y="350676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机会成本与比较优势</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基于机会成本的比较优势理论的提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李嘉图试图在劳动价值论基础上解释比较优势，这决定了李嘉图的比较优势理论存在着内在的矛盾。根据劳动价值理论，商品的价值或价格决定于投入商品生产中的劳动量。然而，劳动既不是投入到生产中的唯一要素，也不是以固定比例投入到所有商品的生产过程。此外，在大多数商品生产过程中，劳动、资本和其他要素之间可以相互替代。更何况，劳动又都是不同质的，相应地具有不同的劳动生产率。因此，劳动价值理论难以解释现实生活中的比较优势。</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6</a:t>
            </a:r>
            <a:r>
              <a:rPr b="0" lang="zh-CN" sz="1800" spc="-1" strike="noStrike">
                <a:solidFill>
                  <a:srgbClr val="003366"/>
                </a:solidFill>
                <a:latin typeface="Arial"/>
              </a:rPr>
              <a:t>年哈伯勒（</a:t>
            </a:r>
            <a:r>
              <a:rPr b="0" lang="en-US" sz="1800" spc="-1" strike="noStrike">
                <a:solidFill>
                  <a:srgbClr val="003366"/>
                </a:solidFill>
                <a:latin typeface="Arial"/>
              </a:rPr>
              <a:t>Haberler</a:t>
            </a:r>
            <a:r>
              <a:rPr b="0" lang="zh-CN" sz="1800" spc="-1" strike="noStrike">
                <a:solidFill>
                  <a:srgbClr val="003366"/>
                </a:solidFill>
                <a:latin typeface="Arial"/>
              </a:rPr>
              <a:t>）用机会成本理论解释了比较优势原理，被称为“比较成本理论”（</a:t>
            </a:r>
            <a:r>
              <a:rPr b="0" lang="en-US" sz="1800" spc="-1" strike="noStrike">
                <a:solidFill>
                  <a:srgbClr val="003366"/>
                </a:solidFill>
                <a:latin typeface="Arial"/>
              </a:rPr>
              <a:t>theory of comparative cos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a:t>
            </a:r>
            <a:r>
              <a:rPr b="0" lang="en-US" sz="1800" spc="-1" strike="noStrike">
                <a:solidFill>
                  <a:srgbClr val="003366"/>
                </a:solidFill>
                <a:latin typeface="Arial"/>
              </a:rPr>
              <a:t>Opportunity Cost</a:t>
            </a:r>
            <a:r>
              <a:rPr b="0" lang="zh-CN" sz="1800" spc="-1" strike="noStrike">
                <a:solidFill>
                  <a:srgbClr val="003366"/>
                </a:solidFill>
                <a:latin typeface="Arial"/>
              </a:rPr>
              <a:t>）的含义是，一种商品的机会成本是增加</a:t>
            </a:r>
            <a:r>
              <a:rPr b="0" lang="en-US" sz="1800" spc="-1" strike="noStrike">
                <a:solidFill>
                  <a:srgbClr val="003366"/>
                </a:solidFill>
                <a:latin typeface="Arial"/>
              </a:rPr>
              <a:t>1</a:t>
            </a:r>
            <a:r>
              <a:rPr b="0" lang="zh-CN" sz="1800" spc="-1" strike="noStrike">
                <a:solidFill>
                  <a:srgbClr val="003366"/>
                </a:solidFill>
                <a:latin typeface="Arial"/>
              </a:rPr>
              <a:t>单位该种商品的生产所必须放弃的另一种商品的生产量。根据机会成本理论，当一国在某种商品生产上有较低的机会成本时，该国在该商品生产上就具有比较优势，反之，则反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可以用生产可能性曲线（</a:t>
            </a:r>
            <a:r>
              <a:rPr b="0" lang="en-US" sz="1800" spc="-1" strike="noStrike">
                <a:solidFill>
                  <a:srgbClr val="003366"/>
                </a:solidFill>
                <a:latin typeface="Arial"/>
              </a:rPr>
              <a:t>production possibility frontier</a:t>
            </a:r>
            <a:r>
              <a:rPr b="0" lang="zh-CN" sz="1800" spc="-1" strike="noStrike">
                <a:solidFill>
                  <a:srgbClr val="003366"/>
                </a:solidFill>
                <a:latin typeface="Arial"/>
              </a:rPr>
              <a:t>）或产品转换线（</a:t>
            </a:r>
            <a:r>
              <a:rPr b="0" lang="en-US" sz="1800" spc="-1" strike="noStrike">
                <a:solidFill>
                  <a:srgbClr val="003366"/>
                </a:solidFill>
                <a:latin typeface="Arial"/>
              </a:rPr>
              <a:t>transformation schedule</a:t>
            </a:r>
            <a:r>
              <a:rPr b="0" lang="zh-CN" sz="1800" spc="-1" strike="noStrike">
                <a:solidFill>
                  <a:srgbClr val="003366"/>
                </a:solidFill>
                <a:latin typeface="Arial"/>
              </a:rPr>
              <a:t>）加以说明。一国的生产可能性曲线是指该国在一定的资源和技术条件下所能够生产的两种商品的各种组合。机会成本的大小表现为生产可能性曲线的斜率，也就是产品的边际转换率</a:t>
            </a:r>
            <a:r>
              <a:rPr b="0" lang="en-US" sz="1800" spc="-1" strike="noStrike">
                <a:solidFill>
                  <a:srgbClr val="003366"/>
                </a:solidFill>
                <a:latin typeface="Arial"/>
              </a:rPr>
              <a:t>(the marginal rate of transformation, MRT)</a:t>
            </a:r>
            <a:r>
              <a:rPr b="0" lang="zh-CN"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机会成本条件下的生产可能性曲线、贸易基础与贸易利益</a:t>
            </a:r>
            <a:endParaRPr b="1" lang="en-US" sz="20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固定机会成本条件下的生产可能性曲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机会成本条件下的生产可能性曲线可以表示为下图。图</a:t>
            </a:r>
            <a:r>
              <a:rPr b="0" lang="en-US" sz="1800" spc="-1" strike="noStrike">
                <a:solidFill>
                  <a:srgbClr val="003366"/>
                </a:solidFill>
                <a:latin typeface="Arial"/>
              </a:rPr>
              <a:t>1</a:t>
            </a:r>
            <a:r>
              <a:rPr b="0" lang="zh-CN" sz="1800" spc="-1" strike="noStrike">
                <a:solidFill>
                  <a:srgbClr val="003366"/>
                </a:solidFill>
                <a:latin typeface="Arial"/>
              </a:rPr>
              <a:t>表示</a:t>
            </a:r>
            <a:r>
              <a:rPr b="0" lang="en-US" sz="1800" spc="-1" strike="noStrike">
                <a:solidFill>
                  <a:srgbClr val="003366"/>
                </a:solidFill>
                <a:latin typeface="Arial"/>
              </a:rPr>
              <a:t>A</a:t>
            </a:r>
            <a:r>
              <a:rPr b="0" lang="zh-CN" sz="1800" spc="-1" strike="noStrike">
                <a:solidFill>
                  <a:srgbClr val="003366"/>
                </a:solidFill>
                <a:latin typeface="Arial"/>
              </a:rPr>
              <a:t>国固定机会成本条件下的生产可能性曲线；图</a:t>
            </a:r>
            <a:r>
              <a:rPr b="0" lang="en-US" sz="1800" spc="-1" strike="noStrike">
                <a:solidFill>
                  <a:srgbClr val="003366"/>
                </a:solidFill>
                <a:latin typeface="Arial"/>
              </a:rPr>
              <a:t>2</a:t>
            </a:r>
            <a:r>
              <a:rPr b="0" lang="zh-CN" sz="1800" spc="-1" strike="noStrike">
                <a:solidFill>
                  <a:srgbClr val="003366"/>
                </a:solidFill>
                <a:latin typeface="Arial"/>
              </a:rPr>
              <a:t>表示</a:t>
            </a:r>
            <a:r>
              <a:rPr b="0" lang="en-US" sz="1800" spc="-1" strike="noStrike">
                <a:solidFill>
                  <a:srgbClr val="003366"/>
                </a:solidFill>
                <a:latin typeface="Arial"/>
              </a:rPr>
              <a:t>B</a:t>
            </a:r>
            <a:r>
              <a:rPr b="0" lang="zh-CN" sz="1800" spc="-1" strike="noStrike">
                <a:solidFill>
                  <a:srgbClr val="003366"/>
                </a:solidFill>
                <a:latin typeface="Arial"/>
              </a:rPr>
              <a:t>国固定机会成本条件下的生产可能性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Line 4"/>
          <p:cNvSpPr/>
          <p:nvPr/>
        </p:nvSpPr>
        <p:spPr>
          <a:xfrm flipV="1">
            <a:off x="1692360" y="3860640"/>
            <a:ext cx="0" cy="2089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Line 5"/>
          <p:cNvSpPr/>
          <p:nvPr/>
        </p:nvSpPr>
        <p:spPr>
          <a:xfrm>
            <a:off x="169236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Line 6"/>
          <p:cNvSpPr/>
          <p:nvPr/>
        </p:nvSpPr>
        <p:spPr>
          <a:xfrm flipV="1">
            <a:off x="5580000" y="3715920"/>
            <a:ext cx="0" cy="2233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7"/>
          <p:cNvSpPr/>
          <p:nvPr/>
        </p:nvSpPr>
        <p:spPr>
          <a:xfrm>
            <a:off x="558000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Line 8"/>
          <p:cNvSpPr/>
          <p:nvPr/>
        </p:nvSpPr>
        <p:spPr>
          <a:xfrm>
            <a:off x="1692360" y="5300640"/>
            <a:ext cx="1800000" cy="6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Text Box 9"/>
          <p:cNvSpPr/>
          <p:nvPr/>
        </p:nvSpPr>
        <p:spPr>
          <a:xfrm>
            <a:off x="426564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2" name="Text Box 10"/>
          <p:cNvSpPr/>
          <p:nvPr/>
        </p:nvSpPr>
        <p:spPr>
          <a:xfrm>
            <a:off x="138564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3" name="Text Box 11"/>
          <p:cNvSpPr/>
          <p:nvPr/>
        </p:nvSpPr>
        <p:spPr>
          <a:xfrm>
            <a:off x="2249280" y="517680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0.5</a:t>
            </a:r>
            <a:endParaRPr b="0" lang="en-US" sz="1800" spc="-1" strike="noStrike">
              <a:solidFill>
                <a:srgbClr val="003366"/>
              </a:solidFill>
              <a:latin typeface="Arial"/>
            </a:endParaRPr>
          </a:p>
        </p:txBody>
      </p:sp>
      <p:sp>
        <p:nvSpPr>
          <p:cNvPr id="144" name="Line 12"/>
          <p:cNvSpPr/>
          <p:nvPr/>
        </p:nvSpPr>
        <p:spPr>
          <a:xfrm>
            <a:off x="5580000" y="3933720"/>
            <a:ext cx="792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13"/>
          <p:cNvSpPr/>
          <p:nvPr/>
        </p:nvSpPr>
        <p:spPr>
          <a:xfrm>
            <a:off x="815328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6" name="Text Box 14"/>
          <p:cNvSpPr/>
          <p:nvPr/>
        </p:nvSpPr>
        <p:spPr>
          <a:xfrm>
            <a:off x="5273640" y="3521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7" name="Text Box 15"/>
          <p:cNvSpPr/>
          <p:nvPr/>
        </p:nvSpPr>
        <p:spPr>
          <a:xfrm>
            <a:off x="5921280" y="452916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2.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固定机会成本条件下的生产可能性曲线、贸易基础与贸易利益</a:t>
            </a:r>
            <a:endParaRPr b="1" lang="en-US" sz="20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固定机会成本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1600" spc="-1" strike="noStrike">
                <a:solidFill>
                  <a:srgbClr val="003366"/>
                </a:solidFill>
                <a:latin typeface="Arial"/>
              </a:rPr>
              <a:t>固定机会成本条件下的贸易利益</a:t>
            </a:r>
            <a:endParaRPr b="0" lang="en-US" sz="16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106</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分工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基于交换的利益</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机会成本递增条件下的生产可能性曲线、贸易基础与贸易利益</a:t>
            </a:r>
            <a:br>
              <a:rPr sz="2800"/>
            </a:br>
            <a:endParaRPr b="1" lang="en-US" sz="20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固定机会成本条件下的生产可能性曲线</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递增是指随着一种商品的生产量的增加，该种商品的机会成本递增的现象。机会成本递增反映为一条外拱的生产可能性曲线。图中，小麦与布匹两种商品的生产组合点沿着生产可能性曲线从</a:t>
            </a:r>
            <a:r>
              <a:rPr b="0" lang="en-US" sz="1800" spc="-1" strike="noStrike">
                <a:solidFill>
                  <a:srgbClr val="003366"/>
                </a:solidFill>
                <a:latin typeface="Arial"/>
              </a:rPr>
              <a:t>A</a:t>
            </a:r>
            <a:r>
              <a:rPr b="0" lang="zh-CN" sz="1800" spc="-1" strike="noStrike">
                <a:solidFill>
                  <a:srgbClr val="003366"/>
                </a:solidFill>
                <a:latin typeface="Arial"/>
              </a:rPr>
              <a:t>点向</a:t>
            </a:r>
            <a:r>
              <a:rPr b="0" lang="en-US" sz="1800" spc="-1" strike="noStrike">
                <a:solidFill>
                  <a:srgbClr val="003366"/>
                </a:solidFill>
                <a:latin typeface="Arial"/>
              </a:rPr>
              <a:t>B</a:t>
            </a:r>
            <a:r>
              <a:rPr b="0" lang="zh-CN" sz="1800" spc="-1" strike="noStrike">
                <a:solidFill>
                  <a:srgbClr val="003366"/>
                </a:solidFill>
                <a:latin typeface="Arial"/>
              </a:rPr>
              <a:t>点移动，在此情况下，生产可能性曲线的斜率的绝对值增加，也就是产品的边际转换率</a:t>
            </a:r>
            <a:r>
              <a:rPr b="0" lang="en-US" sz="1800" spc="-1" strike="noStrike">
                <a:solidFill>
                  <a:srgbClr val="003366"/>
                </a:solidFill>
                <a:latin typeface="Arial"/>
              </a:rPr>
              <a:t>(MRT)</a:t>
            </a:r>
            <a:r>
              <a:rPr b="0" lang="zh-CN" sz="1800" spc="-1" strike="noStrike">
                <a:solidFill>
                  <a:srgbClr val="003366"/>
                </a:solidFill>
                <a:latin typeface="Arial"/>
              </a:rPr>
              <a:t>提高，表明每增加</a:t>
            </a:r>
            <a:r>
              <a:rPr b="0" lang="en-US" sz="1800" spc="-1" strike="noStrike">
                <a:solidFill>
                  <a:srgbClr val="003366"/>
                </a:solidFill>
                <a:latin typeface="Arial"/>
              </a:rPr>
              <a:t>1</a:t>
            </a:r>
            <a:r>
              <a:rPr b="0" lang="zh-CN" sz="1800" spc="-1" strike="noStrike">
                <a:solidFill>
                  <a:srgbClr val="003366"/>
                </a:solidFill>
                <a:latin typeface="Arial"/>
              </a:rPr>
              <a:t>单位的布匹生产，所要损失的小麦生产越来越多。 </a:t>
            </a:r>
            <a:endParaRPr b="0" lang="en-US" sz="1800" spc="-1" strike="noStrike">
              <a:solidFill>
                <a:srgbClr val="003366"/>
              </a:solidFill>
              <a:latin typeface="Arial"/>
            </a:endParaRPr>
          </a:p>
        </p:txBody>
      </p:sp>
      <p:sp>
        <p:nvSpPr>
          <p:cNvPr id="152" name="Line 4"/>
          <p:cNvSpPr/>
          <p:nvPr/>
        </p:nvSpPr>
        <p:spPr>
          <a:xfrm flipV="1">
            <a:off x="2484360" y="4436640"/>
            <a:ext cx="0" cy="15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5"/>
          <p:cNvSpPr/>
          <p:nvPr/>
        </p:nvSpPr>
        <p:spPr>
          <a:xfrm>
            <a:off x="2484360" y="5950080"/>
            <a:ext cx="403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6"/>
          <p:cNvSpPr/>
          <p:nvPr/>
        </p:nvSpPr>
        <p:spPr>
          <a:xfrm>
            <a:off x="2484360" y="4653000"/>
            <a:ext cx="1203480" cy="1247760"/>
          </a:xfrm>
          <a:custGeom>
            <a:avLst/>
            <a:gdLst/>
            <a:ahLst/>
            <a:rect l="l" t="t" r="r" b="b"/>
            <a:pathLst>
              <a:path w="758" h="786">
                <a:moveTo>
                  <a:pt x="0" y="0"/>
                </a:moveTo>
                <a:cubicBezTo>
                  <a:pt x="186" y="11"/>
                  <a:pt x="77" y="0"/>
                  <a:pt x="182" y="16"/>
                </a:cubicBezTo>
                <a:cubicBezTo>
                  <a:pt x="216" y="21"/>
                  <a:pt x="284" y="31"/>
                  <a:pt x="284" y="31"/>
                </a:cubicBezTo>
                <a:cubicBezTo>
                  <a:pt x="310" y="40"/>
                  <a:pt x="329" y="55"/>
                  <a:pt x="355" y="63"/>
                </a:cubicBezTo>
                <a:cubicBezTo>
                  <a:pt x="363" y="65"/>
                  <a:pt x="400" y="73"/>
                  <a:pt x="410" y="79"/>
                </a:cubicBezTo>
                <a:cubicBezTo>
                  <a:pt x="467" y="113"/>
                  <a:pt x="517" y="158"/>
                  <a:pt x="576" y="189"/>
                </a:cubicBezTo>
                <a:cubicBezTo>
                  <a:pt x="619" y="253"/>
                  <a:pt x="563" y="176"/>
                  <a:pt x="616" y="229"/>
                </a:cubicBezTo>
                <a:cubicBezTo>
                  <a:pt x="637" y="250"/>
                  <a:pt x="630" y="265"/>
                  <a:pt x="647" y="292"/>
                </a:cubicBezTo>
                <a:cubicBezTo>
                  <a:pt x="653" y="302"/>
                  <a:pt x="664" y="307"/>
                  <a:pt x="671" y="316"/>
                </a:cubicBezTo>
                <a:cubicBezTo>
                  <a:pt x="689" y="338"/>
                  <a:pt x="718" y="387"/>
                  <a:pt x="718" y="387"/>
                </a:cubicBezTo>
                <a:cubicBezTo>
                  <a:pt x="736" y="458"/>
                  <a:pt x="727" y="430"/>
                  <a:pt x="742" y="473"/>
                </a:cubicBezTo>
                <a:cubicBezTo>
                  <a:pt x="745" y="518"/>
                  <a:pt x="750" y="562"/>
                  <a:pt x="750" y="607"/>
                </a:cubicBezTo>
                <a:cubicBezTo>
                  <a:pt x="750" y="665"/>
                  <a:pt x="739" y="723"/>
                  <a:pt x="742" y="781"/>
                </a:cubicBezTo>
                <a:cubicBezTo>
                  <a:pt x="742" y="786"/>
                  <a:pt x="753" y="781"/>
                  <a:pt x="758" y="78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7"/>
          <p:cNvSpPr/>
          <p:nvPr/>
        </p:nvSpPr>
        <p:spPr>
          <a:xfrm>
            <a:off x="2411280" y="508464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8"/>
          <p:cNvSpPr/>
          <p:nvPr/>
        </p:nvSpPr>
        <p:spPr>
          <a:xfrm>
            <a:off x="349236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9"/>
          <p:cNvSpPr/>
          <p:nvPr/>
        </p:nvSpPr>
        <p:spPr>
          <a:xfrm>
            <a:off x="3276720" y="4724280"/>
            <a:ext cx="503280" cy="7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0"/>
          <p:cNvSpPr/>
          <p:nvPr/>
        </p:nvSpPr>
        <p:spPr>
          <a:xfrm>
            <a:off x="3492360" y="4581360"/>
            <a:ext cx="287640" cy="12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1"/>
          <p:cNvSpPr/>
          <p:nvPr/>
        </p:nvSpPr>
        <p:spPr>
          <a:xfrm>
            <a:off x="3401640" y="467352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RT=1</a:t>
            </a:r>
            <a:endParaRPr b="0" lang="en-US" sz="1800" spc="-1" strike="noStrike">
              <a:solidFill>
                <a:srgbClr val="003366"/>
              </a:solidFill>
              <a:latin typeface="Arial"/>
            </a:endParaRPr>
          </a:p>
        </p:txBody>
      </p:sp>
      <p:sp>
        <p:nvSpPr>
          <p:cNvPr id="160" name="Text Box 12"/>
          <p:cNvSpPr/>
          <p:nvPr/>
        </p:nvSpPr>
        <p:spPr>
          <a:xfrm>
            <a:off x="3617640" y="524844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MRT=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机会成本递增条件下的生产可能性曲线、贸易基础与贸易利益</a:t>
            </a:r>
            <a:br>
              <a:rPr sz="2800"/>
            </a:br>
            <a:endParaRPr b="1" lang="en-US" sz="20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机会成本递增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机会成本递增条件下的贸易利益</a:t>
            </a:r>
            <a:br>
              <a:rPr sz="2000"/>
            </a:br>
            <a:r>
              <a:rPr b="0" lang="zh-CN"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108</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贸易的静态均衡、贸易的动态均衡与贸易条件</a:t>
            </a:r>
            <a:endParaRPr b="1" lang="en-US" sz="24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供求与贸易的静态均衡</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两种商品的供求模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均衡条件处在两国交换比率的上下限内。实际的、唯一的均衡贸易条件是由两国作为交易对手的相对需求强度决定的，处于双方正好能够吸收到对方的出口。如果对手对于本国商品的需求强度大于本国对于对手商品的需求强度，则交换比率越接近于外国国内的交换比率；反之，则越接近本国国内的交换比率。</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Line 4"/>
          <p:cNvSpPr/>
          <p:nvPr/>
        </p:nvSpPr>
        <p:spPr>
          <a:xfrm flipV="1">
            <a:off x="2771640" y="4581360"/>
            <a:ext cx="0" cy="1440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5"/>
          <p:cNvSpPr/>
          <p:nvPr/>
        </p:nvSpPr>
        <p:spPr>
          <a:xfrm>
            <a:off x="2771640" y="6021360"/>
            <a:ext cx="482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Line 6"/>
          <p:cNvSpPr/>
          <p:nvPr/>
        </p:nvSpPr>
        <p:spPr>
          <a:xfrm flipV="1">
            <a:off x="2771640" y="4652640"/>
            <a:ext cx="1079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7"/>
          <p:cNvSpPr/>
          <p:nvPr/>
        </p:nvSpPr>
        <p:spPr>
          <a:xfrm flipV="1">
            <a:off x="2771640" y="5084640"/>
            <a:ext cx="331308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Text Box 8"/>
          <p:cNvSpPr/>
          <p:nvPr/>
        </p:nvSpPr>
        <p:spPr>
          <a:xfrm>
            <a:off x="757692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0" name="Text Box 9"/>
          <p:cNvSpPr/>
          <p:nvPr/>
        </p:nvSpPr>
        <p:spPr>
          <a:xfrm>
            <a:off x="2393640" y="438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1" name="Text Box 10"/>
          <p:cNvSpPr/>
          <p:nvPr/>
        </p:nvSpPr>
        <p:spPr>
          <a:xfrm>
            <a:off x="4197960" y="445608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2" name="Text Box 11"/>
          <p:cNvSpPr/>
          <p:nvPr/>
        </p:nvSpPr>
        <p:spPr>
          <a:xfrm>
            <a:off x="6429960" y="488952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3" name="Freeform 12"/>
          <p:cNvSpPr/>
          <p:nvPr/>
        </p:nvSpPr>
        <p:spPr>
          <a:xfrm>
            <a:off x="3570120" y="5299200"/>
            <a:ext cx="324000" cy="312480"/>
          </a:xfrm>
          <a:custGeom>
            <a:avLst/>
            <a:gdLst/>
            <a:ahLst/>
            <a:rect l="l" t="t" r="r" b="b"/>
            <a:pathLst>
              <a:path w="204" h="197">
                <a:moveTo>
                  <a:pt x="0" y="0"/>
                </a:moveTo>
                <a:cubicBezTo>
                  <a:pt x="36" y="12"/>
                  <a:pt x="73" y="15"/>
                  <a:pt x="110" y="23"/>
                </a:cubicBezTo>
                <a:cubicBezTo>
                  <a:pt x="119" y="27"/>
                  <a:pt x="157" y="45"/>
                  <a:pt x="165" y="55"/>
                </a:cubicBezTo>
                <a:cubicBezTo>
                  <a:pt x="176" y="69"/>
                  <a:pt x="179" y="88"/>
                  <a:pt x="189" y="102"/>
                </a:cubicBezTo>
                <a:cubicBezTo>
                  <a:pt x="204" y="148"/>
                  <a:pt x="197" y="118"/>
                  <a:pt x="197" y="19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Text Box 13"/>
          <p:cNvSpPr/>
          <p:nvPr/>
        </p:nvSpPr>
        <p:spPr>
          <a:xfrm>
            <a:off x="4133880" y="5091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贸易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3:51:08Z</dcterms:created>
  <dc:creator>YPL</dc:creator>
  <dc:description/>
  <dc:language>en-US</dc:language>
  <cp:lastModifiedBy>Dell</cp:lastModifiedBy>
  <dcterms:modified xsi:type="dcterms:W3CDTF">2021-08-23T22:45:45Z</dcterms:modified>
  <cp:revision>16</cp:revision>
  <dc:subject/>
  <dc:title>第四章  国际贸易纯理论</dc:title>
</cp:coreProperties>
</file>